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617-AAFC-498C-B43C-5A6D78B3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0E2-0C24-42FC-A965-3C178D12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BF80-41A5-4B4E-88A7-4F57413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3033-A0A6-4E58-935B-9EE81816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502AF-B3F8-48DE-80BC-A31897A1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5EC5-5DB3-44C3-8003-497ABD1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952DA-8CB1-400D-8ED9-FB685EF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2D66-2429-40B7-8003-2B382E4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B759F-E2C1-4321-9B8F-1ACC0E8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90F7E-7594-4B7B-A25E-EC8A0C90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A6D9A-624E-4084-91EB-0618FF4E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D26-F8E8-4DF9-88A6-6F9D225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042-C597-48FC-AA5D-F476BAD0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2B8E-2762-4C59-952F-EF4B5DEF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43B-7D20-4953-A237-440E31C8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0039-1B39-448D-B84E-ABB63F29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F4E-447B-43E7-86D5-E2A93D5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C45-8046-4C54-82D6-D1FE484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F2BE-5504-447C-BCD5-85479BF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FDF-CDF0-49EB-B3FC-D769975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7D7-2D9B-4762-BAED-F5E853A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5F2-1C4C-4E46-9AD0-1320E25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548-3A01-4D6A-B590-0EB2CB0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69D-1812-4740-9933-C75BD994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2DDE-2CC9-4F1A-A4E1-A6CF5E38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E718-D97A-4376-B07F-83176DAE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C6BB-F020-4FB2-843D-E1C5AF1D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F96E-6ECC-457C-84C5-25187F6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3335-3A87-45DB-B3C0-07C2BC2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61E5-0306-4941-9F38-E334167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2F8F-56DF-47C9-B94C-1C51F40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C28-DD0E-4B31-9851-2A0DCFC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8C7A-8CC5-4600-9CA0-CA9B495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50FF-5893-40AC-9B89-DD7AB45C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B2A7-C0D6-4AD4-8B5C-A15598D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7E12-A3CB-4F9D-B891-EFDD968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EDD9-A2E2-4B2F-ADC2-CC0189D7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1D52-9A0E-4947-A1D3-03385E7F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41C1-4417-4578-B3ED-AAF5FBF5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6108E-54BC-46DF-9D63-F19A7585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B8647-EE10-4B37-A4E1-B99F798E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3C3DB-CA7B-469E-908C-47116CD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F8F-A550-49BC-B2D8-0199207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D791B-3B6D-47E0-B52E-14A62C47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64846-9391-4263-9959-9D9DDE9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9405A-7303-4A3E-B895-B144A28A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6E693-C4BE-40C6-83D9-B8AD28D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48F87-90B6-4F32-AC04-E047358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934E5-83E1-4DC2-BF02-F2EA3AD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AACDF-6A45-4518-A0B8-C657005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72D5A-B12C-49D9-A055-04184E57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83FE1-4B88-4C24-8032-3E82BBF0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96E8-3691-4F22-92BD-60CA017C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15D-D761-425E-84EB-6B228C40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34B3-B699-4AB8-81B1-9F45013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5DB7-C434-4E92-8C63-89962DE2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6C6C-2D6C-4649-A227-F386FFC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F0CA9-0DF6-4390-859E-87AAA28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326E-BBE3-4682-A75A-626A3D9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8F26-651C-4C88-8D95-ABB8C17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1A56-E182-479E-9295-3B16F31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9476-4E9D-4385-84FB-80E4306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95295-E79D-4691-BBD7-3F17326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6EAF-8FCC-41EB-9536-65458135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E81-EE45-4C7C-9169-05FF0879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582F-051B-40CC-BDB4-414711FE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EC79-8B9F-4329-9371-D09288A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75C5-E9CF-4464-A692-7520E78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7B05-3B12-4226-8388-3A353B7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E272-6C23-4A0F-BCD3-8181686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18E2-8FCE-4023-8207-BCC1CE1E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A152-3631-4A12-A4DF-27615F9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5CD9-2BCB-44CA-88B2-CABFC57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DD40-0CEA-45B5-A806-E7AFD79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D12D-8E73-483A-B462-410CC6D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11D-2462-4D79-9F3F-D2C1DB1D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EDC1-EA11-477C-849D-C883A64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85587-A220-48B8-9329-BF4E6BF7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49A31-725E-4DEC-A689-4289855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46551-25AD-48D8-9155-EC2FCC48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8390-413B-41C2-A6B8-EA833D89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3B6A-F87F-4218-9C65-4A31AF14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0B85-48D4-49E8-BDAD-8C2BD6F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9C97-6010-40D7-8D01-96C9E602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56202-75C2-420F-BFFC-DA999F41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43B37-9D07-4D78-8149-6EFFA084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C20-DECE-4127-80E7-E1A21BE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2C8B-11EB-461A-853A-D6A9FF8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1FD6-F6BF-4DB2-815C-5DD5D80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7CA8-BEB8-4C87-9AC3-2A1EEAB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0059-2E48-4A89-9C77-21D22E2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4C61-D07C-4F36-8433-F331EBE1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A41D-850F-4B1D-A2C9-B04B20EE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A920F-538E-4EE7-B506-4672974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011F-6070-4A94-8055-21FA8B7E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9E88-D006-49A5-A680-97F4A9A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58B69-A642-40A4-8BCF-8991175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F68-D7F1-4F19-8A96-C95DDEE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BE3DA-4543-4B9B-9F67-AD6FD5C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4EF8-B7DC-48D3-8073-FA077653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2C14-17F3-450E-9307-846751F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8C224-50F1-4C05-8A7B-9F81C92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F51C-060B-4806-AC5E-BDC2F73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8ECD-86E2-42AA-9BE1-ABAEBE1D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8A79B-F307-4F0F-9CAD-C4084F48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E1C8-2ED1-4468-AAC3-CF53163E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5269E-EB35-4980-8EDB-7C12C143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834F-4EBE-4342-92B4-8FD75C6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A3A0-26EF-49DA-BC16-24A9D809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9A6-2BA6-496E-8B29-8ED5B31C3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A4F3-2E69-4995-B9F2-90C4C1BB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9EBA-05A0-454A-850D-CEE7AB0F79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80D-A207-45C5-82DB-5721B3EF9D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92E5-8269-4020-A7BA-4CCD8F96FA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A201-3DCD-4459-8C6D-EBC6EE2F01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F7C-7EB1-4B73-A7E2-687ABEDBC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85FD-D125-4AA3-A017-A010DFEEC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31784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5627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emen Bd BT"/>
              </a:rPr>
              <a:t>Rwa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/Answers/Concl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hat do children make soccer balls out of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* Plastic bags bundled together with twi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ho has to greet first, women or me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*Wo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e would like to go to Rwanda and try new foods and learn about the peop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Broadway"/>
              </a:rPr>
              <a:t>Extr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1.00 U.S. dollar = 540.050 Rwandan fran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wandan franc = .00185168 U.S. dol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everyone consumes ubugal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hick, doughy paste made from corn, sorghum, or cassava flour.  Formed into a ball, it is dipped into a sauce made from beans, vegetables, or me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fruits and vegetables include bananas, papaya, avocados, mangoes, sweet potatoes, passion fruit, tomatoes, cabbage, peas, and cassava le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800" y="3521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1046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emen Bd BT"/>
              </a:rPr>
              <a:t>Lo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Rwanda is located  at -1.5 degre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Latitude and 30 degrees longitu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In Central Eastern Africa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Bordering Rwanda is Burundi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Tanzania, Uganda and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Democratic Republic of the Cong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459240" cy="5105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Bremen Bd BT"/>
              </a:rPr>
              <a:t>Did you know this about Rwand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wandan children often make soccer balls out of plastic bags bundled together with tw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ore than 2/3 of Rwandans belong to Christian chur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148284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Bremen Bd BT"/>
              </a:rPr>
              <a:t>Country and Development Da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apital: Kigal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pulation: 8,648,248  growing at an annual rate of 2.4% ( in a total area that is smaller than Marylan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re is a 13 hour difference from Orem to Rwan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DP: $1,26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4114800" cy="246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emen Bd BT"/>
              </a:rPr>
              <a:t>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Language: French, Kinyarwanda, and English are Rwanda’s official languag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Religion: 65% are Catholic, 9% are Protestant, 1% is Muslim, the rest practice indigenous beliefs exclusivel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Western style dress is common, combined with traditional cloth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157788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Bremen Bd BT"/>
              </a:rPr>
              <a:t>Customs and Courtes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Greeting- younger people have to greet older people first, and women greet men first.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Breakfast is sorghum porridge or bread and tea.  Lunch is bananas or leftov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Gestures- one avoids eye contact with a superior or elder.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0574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remen Bd BT"/>
              </a:rPr>
              <a:t>Lifesty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Large extended families are common in Rwand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Dating- casual dating as couples is uncommon. Young people meet at social gather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od- People eat what they grow or o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port- Rwandans play soccer, basketball, volleyball, and jump rop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ndependence day- July 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166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oadway"/>
              </a:rPr>
              <a:t>Socie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overnment- President is Chief of State.  The Prime Minister is the Head of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ducation-  Rwandan children begin school at age 7 for six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ansportation- Rwandans walk or ride bik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429000" y="4862520"/>
            <a:ext cx="266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Bremen Bd BT"/>
              </a:rPr>
              <a:t>Five French Wor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icyclet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llegro BT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rlesworth"/>
              </a:rPr>
              <a:t>Haric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FuturaBlack BT"/>
              </a:rPr>
              <a:t>Embras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905120" cy="1406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867280" y="5181480"/>
            <a:ext cx="2286000" cy="1489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6705720" y="2666880"/>
            <a:ext cx="1320840" cy="19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20:34:57Z</dcterms:created>
  <dc:creator>CVJH-LAB</dc:creator>
  <dc:description/>
  <dc:language>en-US</dc:language>
  <cp:lastModifiedBy>nield411</cp:lastModifiedBy>
  <dcterms:modified xsi:type="dcterms:W3CDTF">2008-01-12T00:41:09Z</dcterms:modified>
  <cp:revision>11</cp:revision>
  <dc:subject/>
  <dc:title>Rwanda</dc:title>
</cp:coreProperties>
</file>